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D15-E351-424C-BC75-0675BB74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8C2-D4B1-4349-AEB9-9D1B5017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BD101-A53A-481C-B805-22D137BB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04DF2-8685-4821-B4E1-1F1A557D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C4F89-195C-4EEC-979A-397155AC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8D513-B7AA-49A2-A510-8C4EC0F8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F26EB-B158-495E-82E4-A8126FF0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21AC3-D237-4993-B932-85CBE017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80F0F-21EE-4D3F-9B67-2A69276A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7D0B7-35EC-4B32-901B-189687C3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3BCB1-DB92-42F9-89A2-A8E01185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76DB0-AE67-4CD4-B08E-B8D3CB12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BFCC-B2D1-48C0-8257-52443764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5EAF9-D324-40A2-9737-84CCEEE2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74117-88DA-44F4-B6CD-CE9839A9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7D198-962A-48F5-B02C-031B08ED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5530E-F8B9-4DF8-A48D-02ACEF4B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F16BF-7354-4D03-85B4-63195C1F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E8BB5-F17C-4208-9A61-1DC2FC22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E45FC-9080-4079-B99F-AA91888F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01304-B667-4B1F-9B5C-7166D13E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431FF-705A-464E-938E-A7E968B9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31E52-0D08-4F8F-B150-03798FBA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63B-0D1E-47F6-8561-34DC49DD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9CD32-AD48-4BC7-B09E-5D82F378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8AA4B-FE47-42AF-8C00-804043DF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38768-BD99-4AC9-B254-481B4DEC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9699A-978E-4CC5-BB15-97376AA6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085B3-DFE6-4EF3-BA2C-0EA65F38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4DFBB-D385-4BFB-8627-2DCCD4A1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1AE8E-EBAA-430D-9504-EE306552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7CF3D-EDD1-4E08-A7F0-2EFBC0F6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B8475-5BCD-4B6E-8A38-3C2912EA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339D6-3B0A-4493-B8D1-69534080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92B7-8C5F-4CA2-9B0D-EA9594C9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8D271-1DB1-4415-9C2E-8FFEC1C4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2D1F7-D880-444D-AFCD-3FB53539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618AF-B2F7-46B6-AAAC-5F727186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15C2C-E858-4529-8418-0D9BC547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206E5-0E47-4716-AECE-3252F694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EABA7-5DA3-4497-9736-F69685FE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F99F8-4DE2-489C-940A-44648C44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85BD7-2F81-4D35-B99A-4A6F6EA7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65247-4C0C-4B9A-B2BD-39D3C849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2CC8B-19FF-4E27-8E6F-E72E259A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EA7A-514D-43DD-A368-E3A849B1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521E9-3F22-4E5C-ACC0-904F6D30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44C4D-4FCB-4D8A-A9B2-399C5448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B184F-8B1D-4878-9A71-E3B2573E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F7CE0-2C37-43BD-A4B7-57FF1DF6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690D7-1873-48BD-B23F-230385E2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E82207-1019-44B6-867F-A78CE8BF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B8B56-0E65-48AD-A6BF-03C0F95D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53AB3-7926-47AF-AAD9-111FFBF9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E99B4E-EF6C-408F-B378-AE1F71DD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E31D3-7FE9-4143-A8BE-D23B70CF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04D7-53BE-4DAC-A0D7-15F7348D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882A8A-FC40-41FB-A371-CC40337A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17C70-82DD-4257-A26F-D1F479FE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B50186-8CE2-4310-A4F6-8DCA45FB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A6B4D-91C7-441B-9793-E831F2E1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31DEBC-12F9-4C08-9C9B-6F8A804A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748A1-21BC-4241-90C4-7710B8E8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26886-9999-435A-A69A-436BA50D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F777F7-7744-41D4-B655-91398C37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269A85-20FB-4B2E-95AB-11773712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711A42-BA11-43C9-AF3F-FD3955E1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5912-190A-42DC-9F6C-AF420842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A3FAF7-C19F-4D07-A776-8558FAA0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F5A4D-DCB3-4A8F-96EF-951633F4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528F93-0C7F-484C-8D88-3E4E6FCE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B01FF6-7EAA-40FD-A1B1-0DE43EFE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E85B8A-4F77-4D41-8217-57DF95E2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F35CD0-A08F-4DB5-9695-D107D335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96BC98-91BC-4DB7-BACB-273A6F91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273DF7-61D3-4614-884B-7DA7D234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3210CD-2A16-4993-8BFC-E92FF46A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305D58-5F2E-4F7B-A1F1-79728C8F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38C6-DA29-4B6D-9382-C5715EB1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B257EB-026E-4BAF-A16E-1ACC5D71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81ED2A-DC5E-48A0-A87C-FFF847BA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CDE6B6-2BB9-478D-90F4-F2CDCBD8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6B2B31-BD9B-4937-8CC0-7AA82773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4CFC3D-C2D9-4CB1-8236-A2C6E6D0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31EBDD-D58F-49E9-B69D-76E782DE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ADC252-5A6D-477E-8B6D-574DE52B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B15291-0E71-41B6-8140-C47AD114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E725F6-29B6-4DAB-A3B6-658D44E3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4822FA-4503-4DD2-8D54-C21CF0D1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DFB5-261C-4FA7-91B3-ABA825C1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AD88C4-7413-45D5-90BF-0AFA934A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1F0CE6-4CCD-49E4-A01F-79ACD1F3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A97143-C723-40DA-A20F-03376B9E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38629B-FCB0-48F6-B4DD-178DF81C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A076BF-59CF-4874-9663-EC2ECE50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F338B7-596F-48E5-A61F-6E467C4A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6055D9-820A-46E4-9536-C90877B2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38D3AD-890E-4834-82DD-BD4F42A8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603DD0-CD46-44F2-878D-8F5F8E47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B47B75-DDCD-4D67-A122-E2895611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B462-11E2-4816-9B19-000D2F68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48E563-23A2-4C87-8A07-4EC593A9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9A4271-0B2A-4537-BEF7-02EB2A43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70DDA8-C029-4958-A418-82386C44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3D464A-1233-47EC-AC15-A447EC83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8B2F37-0417-4884-856A-35453DDA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140952-6153-48AE-934A-3818DAEB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7F7261-03E6-4BE5-977B-4977A67D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F70865-D593-4397-956D-A3086D12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3A38B4-9D2D-4025-BBFE-9A6F2802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C134F9-6CC0-4693-B44B-412A85B8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9760-24FF-4F53-96BD-2A81B36F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B2D9-314B-47E8-89CF-A0ACB8D0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9B6E9F-AEFF-4005-94C4-5B2E9C6C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313E5A-F7E4-44DD-8FBE-E496CE6F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D065CC-DAF3-4D6B-AD7F-003D558B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4F69DA-ADB0-4E8A-B626-FEBED4FA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47E074-E914-46C9-8810-8960E6DF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67D81A-16FF-4DB1-8FA2-07E3425C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AB9950-86E0-4688-AC5D-DD4ED8EB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6C8D33-9D58-4A43-BC1F-81DB1379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A602F5-9491-44A4-A270-F9D8F815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D2750B-B88C-4845-B465-403FA158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B0D4-402D-4552-9C2F-861AB500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446110-6586-4746-9C90-80B8C931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C73B72-7AAD-47CE-9445-D2D4AA1A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1B6871-CC90-4DE6-BFC9-BBDF99C6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FCC07F-E4D6-4AF8-964D-5E7E6EBD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940E8-8276-40A1-9E93-6E44BF22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C1E78D-3AB8-45E5-87F6-63EE5411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F01C88-9D32-440E-B564-340A2843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C8A107-763D-40B7-92A9-6D6352BC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12CBB1-C45F-4F3B-BA30-1FCDC04B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EB9900-D135-4FD2-90E3-015D001A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172B-CDCC-40DA-AF82-D922C2AD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A064D4-A00A-4555-BB66-424E79F3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347690-FAAC-4FB8-B457-779EAFC5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BC1595-7F1E-4F6F-9FBE-D11A1E45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5D2BCC-667B-410F-93A1-783FE927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B7815B-7AA5-48A7-9F9B-38157365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4AF9E4-0171-4F41-97B8-0683DD6A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2CF1F3-7D15-4009-AB54-52C1F540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22A182-BDC9-4C12-BD54-E713DD7C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3D8EB9-1802-451E-B971-4606E04D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4370D4-8A90-46D3-A82F-F0E22C32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4969-72C9-4603-AF84-AD70C0F8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4A8FE4-9007-4860-BB6D-4C256C60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EF30E6-C618-472C-A102-81A65B6D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2B8755-EAD4-48B6-9AC8-00AA9D08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8A09CB-7BF0-4BDC-AC6C-264FA1A1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68877F-F970-4412-8EA4-46504460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27DE3F-5C6F-4978-B515-A9B5FFC1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CD7FE3-31A9-46FF-8288-AEB13F47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376355-607E-4E32-B1C6-F499FC4B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12DE2F-1A8A-4A4C-9D1C-1FDBB351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27D0A0-B863-4BDA-9345-A6FFE257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99EA-5AD1-410F-A1E9-F5DD2CE4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13B2EC-1E5C-49AD-8D69-13DEC961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E3D813-AA08-4929-9CA0-DD26097E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35FBC5-D0BC-4224-AB65-F22D80FE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657437-36E6-49C3-A6DE-A146AA36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A145CB-D228-4F1B-BFCF-46D124F5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278212-D518-43C7-9244-080FBDA9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FC2928-770D-4B71-8570-476986CC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F3B5BE-945D-4C93-832D-DACA6DE6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58B18E-4D34-43AD-BB47-2431371A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8100DB-7FD1-4976-894E-7B0FBB11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4D18D-A2C6-471A-97B6-8062105C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5F8702-C5E3-4849-83BD-2012E5DD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7683C4-149C-4AD1-832E-0F273606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62AFEA-D70A-48B6-A6F3-38E0654F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02A08A-25D3-4EBC-94D4-0CAD6746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65A2A5-C202-495A-B06E-F51C6DBA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5CAE56-FE00-4EE3-840D-6B113308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9927D4-EB32-4B15-A67A-0DD70CF8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E14195-0ACF-4826-8648-4921565F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6DCD4A-FBD3-4367-94A2-8196D196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B1C837-7304-42B1-8D02-FACECFC5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C0130-7E76-430C-B18E-148710E7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656E34-9CC7-4DAF-8B90-E1F07670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58C4AD-A3E2-4628-AA91-4EB8A027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604D0C-DA82-4887-8E18-B2623EDC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0C6DA4-D127-4B2E-8AC5-951283A9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8461C6-BCB2-435F-A027-15C35819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758DC8-EA47-41F9-9C85-3358499D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044C08-C033-4A27-968F-55BF6500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771315-04C5-4B8B-85D0-27A27EA1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881EF5-10B4-47F4-AA91-AAD2891A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FC6BAD-69E5-4A13-9247-265E6025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2CD58-C014-4911-B73B-7F48F8D9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FAF8FA-9C08-4941-A2F0-A4EC2BE8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ADC166-B746-4BD8-9F24-9962F79D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31F283-E2E5-4FAA-AB02-000D54B1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F308E6-6F3B-4A9E-AFED-4A268093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E3D1A3-023F-43D8-AEAE-8798C648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D08D4A-1A1F-40E2-9A9E-60D5F725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22DDF9-E70C-4381-9831-58A7BE28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7F6E0-02D0-476A-9824-09CA28EA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C7F5B-DED1-4AF8-B1E6-314D421E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95C2-EF15-4D82-B3B7-E7224914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2066F-F202-4BEA-806E-22C6C388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003EF-F9F6-4635-B1E5-58C67008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ABD5C-03E4-4FAE-BD71-FD1E0B22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8AFEE-14B7-4B32-B3F7-B7DA4B8D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5AA15-6414-4A65-9187-7E9C2921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27385-2621-4CE6-9424-DCC8B180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188E8-0D00-4415-87AE-60CCE268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D93E4-A308-45EE-9882-3CD6237D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93A9B-6DEE-4574-A79C-53D0DAB2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EE356-31A8-47CF-A414-7C6FAE93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CFC-E651-48CF-AF6A-AA261EC7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808CD-4AD0-47DC-A8BD-D534B66E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7EAEF-9C92-417D-B6C8-90BB43DB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923CA-39C6-4A9B-886F-C9185D62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44D87-FBE0-45F0-8D4E-EA63B9FB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E5608-14C1-4206-9F85-DF018AAD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EBE7C-4A2B-492B-A39A-85411B68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D5342-1D69-4422-837F-D5E03011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5EA06-7BAA-4391-9E26-CBE775B1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A705A-CFCA-48CF-8EAC-65F444A4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BF6A2-2FDF-4E89-AC05-256942A9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271-669F-49AB-B683-759F952C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C7131-0ED1-4BFA-96B8-19000845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49607-66B8-4208-8D16-2E645FCB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9A5A5-5702-446A-B6AC-26C32645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4D055-254E-460F-8F5F-5B660450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EC76B-94C7-4972-A34C-980FEB6F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9BB3E-2E1C-4BAD-A323-4B76EBD0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1730D-C534-4436-B841-7336673B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B4725-E1DF-4F21-9F8B-E9F7FF0B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C6643-3C3A-4DE1-BB09-835974C6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08465-D5AE-4F71-B0D7-EFCEA2AC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3027-5111-4136-917A-0973FA92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A23A0-D9B3-48C9-9684-74BFA2D2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0B6F4-B64F-4500-9FED-1D4BA338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18EA8-CDF8-425C-9ACF-CF18B058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D23C4-466E-452F-9F69-D226B4F4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16FF9-F232-4800-A857-D9F0DB0A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A720F-6FC2-4409-BD78-F759B1EA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B119D-2653-4F8B-9BB7-194FBDFF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7EE20-3677-41F9-8576-9FC01E4F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16672-180E-45FC-BD41-D9811A0A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88E69-0E53-4407-9012-77D69D08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D09-77A5-47C5-966C-5CF0095A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7225F-703E-4D3F-AB38-6646FC5E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586F6-92BE-4197-84DA-4F00D379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AC03E-3DFC-4557-BD33-45351468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8AA92-B256-4D0A-81B9-AB6DFB54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5429C-64C7-4AFE-B34D-809F4739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2550A-50F8-4B89-B404-09C51319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6C054-B065-44F9-AF83-EFB770B6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9160B-DA54-4222-A16C-65D1FA40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46146-4FF3-41ED-959D-7463FE29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970EE-9BFC-4490-B906-D492DB2D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929-C80E-4764-8AC1-1474793B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EE6F2-7C97-491F-ADD8-9B358711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FEC13-F596-4FCC-8EA4-58B62665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EBB60-F12F-4505-BF47-82294986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380D0-97F1-4D5F-9680-CF62D3C6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5839E-A413-41AF-841B-1F134715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9ECAD-670E-43C9-A5A2-F1FD2130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C9043-FF94-44E9-B3FB-87BD8355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71284-E7C8-4069-A11B-A7EEFE4B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4565C-F89E-4B18-9AF6-C322291F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3B850-8D53-4D6F-A5A6-61AF377F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401-9814-42B5-92C0-1DBE1499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11073-BFB9-4849-99EA-413716BD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9BED1-8D3F-4899-A389-0949833B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08BD8-CA97-4698-90A8-F1E2B0CB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34729-A1C4-491F-AEB0-7E6D1AD8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E4534-71A7-410A-B83B-84DDB3A5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FD3D3-2EF2-4373-8F97-EF2F29AC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40D4F-84BB-4938-93F2-5540983A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C9976-E327-4F02-8049-72EAA837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5C1F7-C566-4A19-96DC-BCB35027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6A41C-5C68-4AB3-81EA-5D43AB71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674A-9A27-40D4-9140-20559F78CA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45AE-3214-4A4C-AFAE-AA2137BDF7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C494-5762-40BA-9D37-A7D305B8DF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8A11-7A5E-4F6B-93B1-511EBAC398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38D0-1927-43C1-BB91-F053F101B5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888B-8EB7-490B-9801-4DC53D0CED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6462-B733-49FF-A042-020996B8AF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C368-6656-4215-B042-6E69151C89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CCB8-ECC7-4460-A4BA-6AFC7C4AC6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48F1-94E7-4384-A2D8-1FD4669922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FAE6-F116-4891-B942-2FF7290B7D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2842-8162-4D98-8B11-A1CEE0CB17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10C7-AA55-41AF-9196-583C9F7606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A1F5-58A3-4889-A367-C6C69CCE2A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4685-E307-4781-AEC1-A080FF20D5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84BE-2331-4381-BDB4-5FDF29722B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F98A-7D84-4E3A-9E20-6A99810150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3E8F-DF5F-4AA4-8A3B-D0014EBD73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6ACA-D20A-4B18-A704-955DCB1108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1BF0-F007-4647-A2D3-2B0A27A562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F641-2BAF-44E4-9A4C-2DC392BA4E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7924-5C40-4A2E-9AE3-3ECEB54E72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8E1D-9FA2-4880-A50A-15B81A3036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20C5-437D-42CB-AB05-984A6F0F2B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2396-19DA-4B26-AD06-F3653B66D1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B4B0-D40E-4724-95AD-424B954CA7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EFAD-B4D5-482F-B341-7FBDFC8E40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859A-2B1E-4551-8B46-E5D441B261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FA9A-F8D2-4682-BFF3-D5C38B64D0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CCC6-005C-4D34-AD3E-B6E0868FFC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7637-316B-4FE7-9ACB-BCC2DD0291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3B1A-97FF-4868-926B-138CE16740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3051-580A-4220-926C-88DF6CFF9A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5947-7EB7-4E7B-A8BD-F11392DC70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75D0-F822-4DC0-BF6E-E3AA0E0A13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A163-A2BC-4D6C-B83E-51F057C616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701C-62F2-4D92-8530-7B6A2DA99D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76AD-2000-4505-AC1C-850DE9BCA6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C58F-1576-427F-8D6B-776F95F89B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40E1-0A54-4B8F-A66A-9BBCC6053E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D5A1-6136-4D02-A6C3-014D02ACC3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12E2-AD02-4AD0-8F98-256D7F0504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3760" y="2143080"/>
            <a:ext cx="9096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9520" y="942840"/>
            <a:ext cx="8724960" cy="5572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2700360" y="1916280"/>
            <a:ext cx="1338120" cy="4249440"/>
          </a:xfrm>
          <a:prstGeom prst="rect">
            <a:avLst/>
          </a:prstGeom>
          <a:ln w="0">
            <a:noFill/>
          </a:ln>
        </p:spPr>
      </p:pic>
      <p:grpSp>
        <p:nvGrpSpPr>
          <p:cNvPr id="1008" name="组合 6150"/>
          <p:cNvGrpSpPr/>
          <p:nvPr/>
        </p:nvGrpSpPr>
        <p:grpSpPr>
          <a:xfrm>
            <a:off x="5651640" y="1801800"/>
            <a:ext cx="1657080" cy="3917880"/>
            <a:chOff x="5651640" y="1801800"/>
            <a:chExt cx="1657080" cy="3917880"/>
          </a:xfrm>
        </p:grpSpPr>
        <p:pic>
          <p:nvPicPr>
            <p:cNvPr id="1009" name="Picture 1" descr=""/>
            <p:cNvPicPr/>
            <p:nvPr/>
          </p:nvPicPr>
          <p:blipFill>
            <a:blip r:embed="rId3"/>
            <a:stretch/>
          </p:blipFill>
          <p:spPr>
            <a:xfrm>
              <a:off x="5651640" y="1801800"/>
              <a:ext cx="1338120" cy="28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1" descr=""/>
            <p:cNvPicPr/>
            <p:nvPr/>
          </p:nvPicPr>
          <p:blipFill>
            <a:blip r:embed="rId4"/>
            <a:stretch/>
          </p:blipFill>
          <p:spPr>
            <a:xfrm>
              <a:off x="6732720" y="4292640"/>
              <a:ext cx="57600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1" name="Picture 1" descr=""/>
            <p:cNvPicPr/>
            <p:nvPr/>
          </p:nvPicPr>
          <p:blipFill>
            <a:blip r:embed="rId5"/>
            <a:stretch/>
          </p:blipFill>
          <p:spPr>
            <a:xfrm>
              <a:off x="5651640" y="4998960"/>
              <a:ext cx="144144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733320" y="2266920"/>
            <a:ext cx="7677360" cy="23241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2627280" y="32130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3"/>
          <a:stretch/>
        </p:blipFill>
        <p:spPr>
          <a:xfrm>
            <a:off x="1476360" y="3645000"/>
            <a:ext cx="1366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257040" y="1604880"/>
            <a:ext cx="8629920" cy="36482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7956720" y="2349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7956720" y="29973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7956720" y="3573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5"/>
          <a:stretch/>
        </p:blipFill>
        <p:spPr>
          <a:xfrm>
            <a:off x="7956720" y="41497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6"/>
          <a:stretch/>
        </p:blipFill>
        <p:spPr>
          <a:xfrm>
            <a:off x="7956720" y="4724280"/>
            <a:ext cx="502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561960" y="106200"/>
            <a:ext cx="8399520" cy="66456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2124000" y="3341520"/>
            <a:ext cx="431964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2050920" y="6135840"/>
            <a:ext cx="4319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609480" y="177840"/>
            <a:ext cx="7661520" cy="66452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1403280" y="2851200"/>
            <a:ext cx="309744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1403280" y="6267600"/>
            <a:ext cx="3097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181080" y="957240"/>
            <a:ext cx="8781840" cy="49435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453708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042920" y="5445000"/>
            <a:ext cx="453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295200" y="52560"/>
            <a:ext cx="8553600" cy="67528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1116000" y="5041800"/>
            <a:ext cx="367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1116000" y="5661000"/>
            <a:ext cx="367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1042920" y="6237360"/>
            <a:ext cx="36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576360" y="1398600"/>
            <a:ext cx="8342280" cy="178740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2" descr=""/>
          <p:cNvPicPr/>
          <p:nvPr/>
        </p:nvPicPr>
        <p:blipFill>
          <a:blip r:embed="rId2"/>
          <a:stretch/>
        </p:blipFill>
        <p:spPr>
          <a:xfrm>
            <a:off x="1233360" y="3568680"/>
            <a:ext cx="7029720" cy="22957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3290760" y="1844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3348000" y="23194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5651640" y="184464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5364000" y="2349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7"/>
          <a:stretch/>
        </p:blipFill>
        <p:spPr>
          <a:xfrm>
            <a:off x="8143920" y="1844640"/>
            <a:ext cx="74916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8"/>
          <a:stretch/>
        </p:blipFill>
        <p:spPr>
          <a:xfrm>
            <a:off x="8272440" y="2349360"/>
            <a:ext cx="74916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9"/>
          <a:stretch/>
        </p:blipFill>
        <p:spPr>
          <a:xfrm>
            <a:off x="3348000" y="4278240"/>
            <a:ext cx="74916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10"/>
          <a:stretch/>
        </p:blipFill>
        <p:spPr>
          <a:xfrm>
            <a:off x="2973240" y="4869000"/>
            <a:ext cx="74952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11"/>
          <a:stretch/>
        </p:blipFill>
        <p:spPr>
          <a:xfrm>
            <a:off x="6732720" y="4221000"/>
            <a:ext cx="74916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2"/>
          <a:stretch/>
        </p:blipFill>
        <p:spPr>
          <a:xfrm>
            <a:off x="7093080" y="4869000"/>
            <a:ext cx="749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09:0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